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95409A-B5C7-448B-B98A-F6577EB2BE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86A014-5CA8-4BB1-BA7D-F0931C3EE7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66CAE4-4D97-48CE-A579-D67AB7B408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3C9606-BC9F-4874-9121-EAA6161CE5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DAC737-42EA-4482-84A3-4F314D107B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518B20-C8AD-441B-B9E8-5F991188EC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FB1ADF-444D-47D0-98B8-AB78A4BF12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DB9342-9594-495B-8BBE-FE4C4AEB54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71DD2C-FB9F-43F0-8BE2-EFEEE9B839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4DFAC3-541F-415D-A836-535DEB275B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DA2961-9D1A-4A74-A1B3-F3DEEF4836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AD0EAF-A4E7-4990-8179-41AE0DF29B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A621D2-419F-48F3-BA3E-D723A5B589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DC50AD-28DF-4902-82F9-E6E616CC21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1B1999-7401-431A-8162-8072A69E84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164E31-33EC-4F5D-9E23-E9DC885054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5D0EAB-9DF4-47B0-B1FF-2A15527663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444FF3-5DDA-4396-A55D-56DBD5702B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EE6700-7786-4344-9D2A-F50ACAFF4F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93974C-FBB0-42FC-A91E-8D62B4576D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15D6CC-1D8B-4808-BB58-2561F3E27F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0CD9B-DBDB-41F8-AA80-09D66C426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5C56F-78BB-4AA3-BDFB-A05485E167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AE2C5-5366-4548-8FD5-480D27814E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gd name="textAreaLeft" fmla="*/ 0 w 285480"/>
              <a:gd name="textAreaRight" fmla="*/ 285840 w 285480"/>
              <a:gd name="textAreaTop" fmla="*/ 0 h 209520"/>
              <a:gd name="textAreaBottom" fmla="*/ 209880 h 209520"/>
            </a:gdLst>
            <a:ahLst/>
            <a:rect l="textAreaLeft" t="textAreaTop" r="textAreaRight" b="textAreaBottom"/>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FAC18-4F90-4FD0-9DC7-B9B2A738FB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7135D-7F8F-4874-BD15-B06CF579A26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6923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5400" spc="-1" strike="noStrike">
                <a:solidFill>
                  <a:srgbClr val="ccecff"/>
                </a:solidFill>
                <a:latin typeface="Arial"/>
              </a:rPr>
              <a:t>Building Resilience</a:t>
            </a:r>
            <a:endParaRPr b="0" lang="en-US" sz="5400" spc="-1" strike="noStrike">
              <a:solidFill>
                <a:srgbClr val="ccecff"/>
              </a:solidFill>
              <a:latin typeface="Arial"/>
            </a:endParaRPr>
          </a:p>
        </p:txBody>
      </p:sp>
      <p:sp>
        <p:nvSpPr>
          <p:cNvPr id="21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State of Implementation of the Natural Disaster Risk Management Programme-10th EDF Framework</a:t>
            </a:r>
            <a:endParaRPr b="0" lang="en-US" sz="2800" spc="-1" strike="noStrike">
              <a:solidFill>
                <a:srgbClr val="ffffff"/>
              </a:solidFill>
              <a:latin typeface="Arial"/>
            </a:endParaRPr>
          </a:p>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ffffff"/>
                </a:solidFill>
                <a:latin typeface="Arial"/>
              </a:rPr>
              <a:t>Dr. D.N.Corrie-Kordas</a:t>
            </a:r>
            <a:endParaRPr b="0" lang="en-US" sz="1000" spc="-1" strike="noStrike">
              <a:solidFill>
                <a:srgbClr val="ffffff"/>
              </a:solidFill>
              <a:latin typeface="Arial"/>
            </a:endParaRPr>
          </a:p>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ffffff"/>
                </a:solidFill>
                <a:latin typeface="Arial"/>
              </a:rPr>
              <a:t>                 </a:t>
            </a:r>
            <a:r>
              <a:rPr b="0" lang="fr-BE" sz="1000" spc="-1" strike="noStrike">
                <a:solidFill>
                  <a:srgbClr val="ffffff"/>
                </a:solidFill>
                <a:latin typeface="Arial"/>
              </a:rPr>
              <a:t>Political Affairs &amp; Human Development Department</a:t>
            </a:r>
            <a:endParaRPr b="0" lang="en-US" sz="1000" spc="-1" strike="noStrike">
              <a:solidFill>
                <a:srgbClr val="ffffff"/>
              </a:solidFill>
              <a:latin typeface="Arial"/>
            </a:endParaRPr>
          </a:p>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ffffff"/>
                </a:solidFill>
                <a:latin typeface="Arial"/>
              </a:rPr>
              <a:t>ACP Secretariat</a:t>
            </a:r>
            <a:endParaRPr b="0" lang="en-US" sz="1000" spc="-1" strike="noStrike">
              <a:solidFill>
                <a:srgbClr val="ffffff"/>
              </a:solidFill>
              <a:latin typeface="Arial"/>
            </a:endParaRPr>
          </a:p>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ccecff"/>
                </a:solidFill>
                <a:latin typeface="Arial"/>
              </a:rPr>
              <a:t>FIVE MAIN EXPECTED ACTIVITIES</a:t>
            </a:r>
            <a:endParaRPr b="0" lang="en-US" sz="4000" spc="-1" strike="noStrike">
              <a:solidFill>
                <a:srgbClr val="ccecff"/>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Result Number 1</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  </a:t>
            </a:r>
            <a:r>
              <a:rPr b="0" lang="fr-BE" sz="2000" spc="-1" strike="noStrike">
                <a:solidFill>
                  <a:srgbClr val="ffffff"/>
                </a:solidFill>
                <a:latin typeface="Arial"/>
              </a:rPr>
              <a:t>Extended Programme of Action for the Implementation of the Africa Regional Strategy for Disaster Risk Reduction (2006-2015), through an improved African Union Commission coordinated and monitoring activity. (To be implemented by African Union Commission and United Nations Inter-Agency Strategy on Disaster Reduction)</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Activities will </a:t>
            </a:r>
            <a:r>
              <a:rPr b="0" i="1" lang="fr-BE" sz="2000" spc="-1" strike="noStrike">
                <a:solidFill>
                  <a:srgbClr val="ffffff"/>
                </a:solidFill>
                <a:latin typeface="Arial"/>
              </a:rPr>
              <a:t>inter alia</a:t>
            </a:r>
            <a:r>
              <a:rPr b="0" lang="fr-BE" sz="2000" spc="-1" strike="noStrike">
                <a:solidFill>
                  <a:srgbClr val="ffffff"/>
                </a:solidFill>
                <a:latin typeface="Arial"/>
              </a:rPr>
              <a:t> aim to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Ensure political commitment  and representation of African leaders on DRR fora;</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Improve the coordination and monitoring and reporting mechanisms of AUC to implement the Programme of Actio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Make DRM knowledge more accessible through the formation of networks and coalitions,  capacity development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Provide DRM/DRR training and educatio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Develop and implement advocacy  and communication tool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ccecff"/>
              </a:solidFill>
              <a:latin typeface="Arial"/>
            </a:endParaRPr>
          </a:p>
        </p:txBody>
      </p:sp>
      <p:sp>
        <p:nvSpPr>
          <p:cNvPr id="2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Result Number 2</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Strengthen African Regional Economic Communities DRR capacities  of ECOWAS, ECCAS, IGAD, SADC for  coordination, Planning and providing policy advice to support respective member states and sub-regional programmes. To be implemented by World bank led GFDRR.</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  </a:t>
            </a:r>
            <a:r>
              <a:rPr b="0" lang="fr-BE" sz="2000" spc="-1" strike="noStrike">
                <a:solidFill>
                  <a:srgbClr val="ffffff"/>
                </a:solidFill>
                <a:latin typeface="Arial"/>
              </a:rPr>
              <a:t>Activities will inter alia-</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provide technical assistance to member states to help develop  DRR programm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Enhance regional knowledge on DRM strategy development framework;</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Improve regional capacity for Post –Disaster Needs Assessments and Recovery Planning;</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Improve levels of cooperation and networking between national, regional and global research institution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ccecff"/>
              </a:solidFill>
              <a:latin typeface="Arial"/>
            </a:endParaRPr>
          </a:p>
        </p:txBody>
      </p:sp>
      <p:sp>
        <p:nvSpPr>
          <p:cNvPr id="2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Result Number 3</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Further improve the capacities of National and Regional Climate Centres in order to have an effective use of weather and climate predictions for Early Warning Mechanisms</a:t>
            </a:r>
            <a:r>
              <a:rPr b="0" lang="en-US" sz="2000" spc="-1" strike="noStrike">
                <a:solidFill>
                  <a:srgbClr val="ffffff"/>
                </a:solidFill>
                <a:latin typeface="Arial"/>
              </a:rPr>
              <a:t> that are </a:t>
            </a:r>
            <a:r>
              <a:rPr b="0" lang="fr-BE" sz="2000" spc="-1" strike="noStrike">
                <a:solidFill>
                  <a:srgbClr val="ffffff"/>
                </a:solidFill>
                <a:latin typeface="Arial"/>
              </a:rPr>
              <a:t>community focussed. To be implemented by the African Development Bank.</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	</a:t>
            </a:r>
            <a:r>
              <a:rPr b="0" lang="fr-BE" sz="2000" spc="-1" strike="noStrike">
                <a:solidFill>
                  <a:srgbClr val="ffffff"/>
                </a:solidFill>
                <a:latin typeface="Arial"/>
              </a:rPr>
              <a:t>Activities wil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Build the capacities of the National Meteorological and Hydrological Services (NMH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Strengthen the communciation lines between NMHS and the DRM authorities to ensure the delivery of timely Early Warning Mechanisms at the national level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Provide DRR Hydromet Infrastructure and provide institutional suppor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ccecff"/>
              </a:solidFill>
              <a:latin typeface="Arial"/>
            </a:endParaRPr>
          </a:p>
        </p:txBody>
      </p:sp>
      <p:sp>
        <p:nvSpPr>
          <p:cNvPr id="2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Result Number 4</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The compilation of historical disaster related data to help inform African countries assessment and modelling of future risks. To be implemented by UNISDR.</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Activities will aim 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Build the capacities of countries to account for, understand, and analyse disaster losses and utilise analytical risk assessments of the  full scope of the risks that exists at the national level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Develop countries capacities to incorporate DRR and CCA into public investment and development planning system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Share the information of the Programme’s experience to the Global Community through relevant publications. Eg . Global Assessment Repor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ccecff"/>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Result Number 5</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Develop multi-risk financing strategies at the local, national and regional levels to assist African countries to make informed decisions, and improve their financial response capacity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Activites will aim t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Strengthen countries’ capacities to incorporate disaster risk  information in decision making;</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Develop strategies to increase financial resilience against natural hazard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Strengthen countries’ capacities to generate, access and use information on Disaster Risk ,disaster exposure and Vulnerability data;</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Share knowledge on risk financing solutions and best practi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ccecff"/>
                </a:solidFill>
                <a:latin typeface="Arial"/>
              </a:rPr>
              <a:t>Existing challenges </a:t>
            </a:r>
            <a:br>
              <a:rPr sz="4000"/>
            </a:br>
            <a:r>
              <a:rPr b="0" lang="fr-BE" sz="4000" spc="-1" strike="noStrike">
                <a:solidFill>
                  <a:srgbClr val="ccecff"/>
                </a:solidFill>
                <a:latin typeface="Arial"/>
              </a:rPr>
              <a:t>      in the Caribbean</a:t>
            </a:r>
            <a:endParaRPr b="0" lang="en-US" sz="4000" spc="-1" strike="noStrike">
              <a:solidFill>
                <a:srgbClr val="ccecff"/>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  </a:t>
            </a:r>
            <a:r>
              <a:rPr b="0" lang="fr-BE" sz="2800" spc="-1" strike="noStrike">
                <a:solidFill>
                  <a:srgbClr val="ffffff"/>
                </a:solidFill>
                <a:latin typeface="Arial"/>
              </a:rPr>
              <a:t>Caribbean states are highly vulnerable and prone to following natural hazard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Hurricane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Wind storm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Flood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Earthquake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Volcanic eruptions</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   </a:t>
            </a:r>
            <a:r>
              <a:rPr b="0" lang="fr-BE" sz="2800" spc="-1" strike="noStrike">
                <a:solidFill>
                  <a:srgbClr val="ffffff"/>
                </a:solidFill>
                <a:latin typeface="Arial"/>
              </a:rPr>
              <a:t>The region has significant losses of approximately US $1.5 billion per year as a result of natural disasters.</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ccecff"/>
                </a:solidFill>
                <a:latin typeface="Arial"/>
              </a:rPr>
              <a:t>Historical context</a:t>
            </a:r>
            <a:endParaRPr b="0" lang="en-US" sz="4400" spc="-1" strike="noStrike">
              <a:solidFill>
                <a:srgbClr val="ccecff"/>
              </a:solidFill>
              <a:latin typeface="Arial"/>
            </a:endParaRPr>
          </a:p>
        </p:txBody>
      </p:sp>
      <p:sp>
        <p:nvSpPr>
          <p:cNvPr id="2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Since the 1980s national and regional institutional and legislative frameworks have been established to address preparedness, response, mitigation, prevention and recover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In 2001  CARICOM Secretariat(Caribbean Community) conducted wide stakeholder consultations and adopted a Comprehensive Disaster Management strategy/results framework, which integrated DRM principles into decision making and planning.</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In 2006, this strategy was later revised and the outcome was aimed to promote resilience and enhance regional sustainable development via ‘The Enhanced  CDM Strategy and Programming Framework 2007-2012’.</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ccecff"/>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The Caribbean Disaster Emergency Agency CDEMA has ensured that the regional approach is closely aligned with the Hyogo Framework for Action, the Implementation Plan for the regional Framework for Achieving Development Resilient to Climate Change;</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The Caribbean Development Bank (CDB) has also developed a proactive and strategic approach to DRM, in order to secure its investments;</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Challenges do remain  as Ministries of Finance and Planning still struggle to cope with prevention, mitigation and preparedness to natural hazards;</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ccecff"/>
                </a:solidFill>
                <a:latin typeface="Arial"/>
              </a:rPr>
              <a:t> </a:t>
            </a:r>
            <a:endParaRPr b="0" lang="en-US" sz="4000" spc="-1" strike="noStrike">
              <a:solidFill>
                <a:srgbClr val="ccecff"/>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Reponsiveness to national needs still have to be improved within the context of a Comprehensive Disaster Management framework;</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Clear DRR synergies need to be sought with the Climate Change Adaptation. Both DRR and CCA practitioners and policy makers need to be actively supported;</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A comprehensive Management Information System within CDEMA still needs to be further developed;</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CDEMA and National Disaster Offices need to focus more on capturing and showcasing tangible resul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ccecff"/>
              </a:solidFill>
              <a:latin typeface="Arial"/>
            </a:endParaRPr>
          </a:p>
        </p:txBody>
      </p:sp>
      <p:grpSp>
        <p:nvGrpSpPr>
          <p:cNvPr id="256" name="Organization Chart 7"/>
          <p:cNvGrpSpPr/>
          <p:nvPr/>
        </p:nvGrpSpPr>
        <p:grpSpPr>
          <a:xfrm>
            <a:off x="431640" y="1585800"/>
            <a:ext cx="8208360" cy="4462560"/>
            <a:chOff x="431640" y="1585800"/>
            <a:chExt cx="8208360" cy="4462560"/>
          </a:xfrm>
        </p:grpSpPr>
        <p:cxnSp>
          <p:nvCxnSpPr>
            <p:cNvPr id="257" name="_s2052"/>
            <p:cNvCxnSpPr>
              <a:stCxn id="258" idx="0"/>
              <a:endCxn id="259" idx="2"/>
            </p:cNvCxnSpPr>
            <p:nvPr/>
          </p:nvCxnSpPr>
          <p:spPr>
            <a:xfrm flipV="1" rot="16200000">
              <a:off x="5525640" y="2379600"/>
              <a:ext cx="893160" cy="2873520"/>
            </a:xfrm>
            <a:prstGeom prst="bentConnector3">
              <a:avLst>
                <a:gd name="adj1" fmla="val 12782"/>
              </a:avLst>
            </a:prstGeom>
            <a:ln w="28440">
              <a:solidFill>
                <a:srgbClr val="ffffff"/>
              </a:solidFill>
              <a:miter/>
            </a:ln>
          </p:spPr>
        </p:cxnSp>
        <p:cxnSp>
          <p:nvCxnSpPr>
            <p:cNvPr id="260" name="_s2053"/>
            <p:cNvCxnSpPr>
              <a:stCxn id="261" idx="0"/>
              <a:endCxn id="259" idx="2"/>
            </p:cNvCxnSpPr>
            <p:nvPr/>
          </p:nvCxnSpPr>
          <p:spPr>
            <a:xfrm flipV="1">
              <a:off x="4536000" y="3369960"/>
              <a:ext cx="3600" cy="893160"/>
            </a:xfrm>
            <a:prstGeom prst="bentConnector2">
              <a:avLst/>
            </a:prstGeom>
            <a:ln w="28440">
              <a:solidFill>
                <a:srgbClr val="ffffff"/>
              </a:solidFill>
              <a:miter/>
            </a:ln>
          </p:spPr>
        </p:cxnSp>
        <p:cxnSp>
          <p:nvCxnSpPr>
            <p:cNvPr id="262" name="_s2054"/>
            <p:cNvCxnSpPr>
              <a:stCxn id="263" idx="0"/>
              <a:endCxn id="259" idx="2"/>
            </p:cNvCxnSpPr>
            <p:nvPr/>
          </p:nvCxnSpPr>
          <p:spPr>
            <a:xfrm flipH="1" flipV="1" rot="5400000">
              <a:off x="2652840" y="2379960"/>
              <a:ext cx="893160" cy="2873520"/>
            </a:xfrm>
            <a:prstGeom prst="bentConnector3">
              <a:avLst>
                <a:gd name="adj1" fmla="val 12782"/>
              </a:avLst>
            </a:prstGeom>
            <a:ln w="28440">
              <a:solidFill>
                <a:srgbClr val="ffffff"/>
              </a:solidFill>
              <a:miter/>
            </a:ln>
          </p:spPr>
        </p:cxnSp>
        <p:sp>
          <p:nvSpPr>
            <p:cNvPr id="259" name="_s2055"/>
            <p:cNvSpPr/>
            <p:nvPr/>
          </p:nvSpPr>
          <p:spPr>
            <a:xfrm>
              <a:off x="3304440" y="1585800"/>
              <a:ext cx="2462400" cy="17848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500" spc="-1" strike="noStrike">
                  <a:solidFill>
                    <a:srgbClr val="ffffff"/>
                  </a:solidFill>
                  <a:latin typeface="Arial"/>
                </a:rPr>
                <a:t>CARIFORUM  will chair a Programme Steering Committee</a:t>
              </a:r>
              <a:endParaRPr b="0" lang="en-US" sz="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500" spc="-1" strike="noStrike">
                  <a:solidFill>
                    <a:srgbClr val="ffffff"/>
                  </a:solidFill>
                  <a:latin typeface="Arial"/>
                </a:rPr>
                <a:t>which will advise, provide global strategic direction of the Programme, </a:t>
              </a:r>
              <a:endParaRPr b="0" lang="en-US" sz="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500" spc="-1" strike="noStrike">
                  <a:solidFill>
                    <a:srgbClr val="ffffff"/>
                  </a:solidFill>
                  <a:latin typeface="Arial"/>
                </a:rPr>
                <a:t>and responsible to review progress, work programs and reports.</a:t>
              </a:r>
              <a:endParaRPr b="0" lang="en-US" sz="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500" spc="-1" strike="noStrike">
                  <a:solidFill>
                    <a:srgbClr val="ffffff"/>
                  </a:solidFill>
                  <a:latin typeface="Arial"/>
                </a:rPr>
                <a:t>ACP Secretariat’s Assistant Secretary General responsible for 10th EDF DRR</a:t>
              </a:r>
              <a:endParaRPr b="0" lang="en-US" sz="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500" spc="-1" strike="noStrike">
                  <a:solidFill>
                    <a:srgbClr val="ffffff"/>
                  </a:solidFill>
                  <a:latin typeface="Arial"/>
                </a:rPr>
                <a:t>will be invited to participate in Steering Committees.</a:t>
              </a:r>
              <a:endParaRPr b="0" lang="en-US" sz="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500" spc="-1" strike="noStrike">
                  <a:solidFill>
                    <a:srgbClr val="ffffff"/>
                  </a:solidFill>
                  <a:latin typeface="Arial"/>
                </a:rPr>
                <a:t>The Programme Steering Committee will decide when to invite DFFID to the Caribbean,</a:t>
              </a:r>
              <a:endParaRPr b="0" lang="en-US" sz="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500" spc="-1" strike="noStrike">
                  <a:solidFill>
                    <a:srgbClr val="ffffff"/>
                  </a:solidFill>
                  <a:latin typeface="Arial"/>
                </a:rPr>
                <a:t>UNISDR and GFDRR to attend as Observers.</a:t>
              </a:r>
              <a:endParaRPr b="0" lang="en-US" sz="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p:txBody>
        </p:sp>
        <p:sp>
          <p:nvSpPr>
            <p:cNvPr id="263" name="_s2056"/>
            <p:cNvSpPr/>
            <p:nvPr/>
          </p:nvSpPr>
          <p:spPr>
            <a:xfrm>
              <a:off x="431640" y="4263480"/>
              <a:ext cx="2462400" cy="17848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FUNDING BENEFICIARIES</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CDEMA</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Caribbean Development Bank</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CARIFORUM Member States</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through National Disaster Management Agencies</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Communities that have been negatively</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affected by meteorological,geological</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Climate related and </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other natural hazards,</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Caribbean Meteorological Organisation and Caribbean Institute for</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 </a:t>
              </a:r>
              <a:r>
                <a:rPr b="0" lang="fr-BE" sz="600" spc="-1" strike="noStrike">
                  <a:solidFill>
                    <a:srgbClr val="ffffff"/>
                  </a:solidFill>
                  <a:latin typeface="Arial"/>
                </a:rPr>
                <a:t>Meteorology and Hydrology</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UWI Disaster Risk Reduction Centre and Seismic Research Centre</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Caribbean Community Climate Change Centre</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Civil Society </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Private sector </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 spc="-1" strike="noStrike">
                  <a:solidFill>
                    <a:srgbClr val="ffffff"/>
                  </a:solidFill>
                  <a:latin typeface="Arial"/>
                </a:rPr>
                <a:t> </a:t>
              </a:r>
              <a:endParaRPr b="0" lang="en-US" sz="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61" name="_s2057"/>
            <p:cNvSpPr/>
            <p:nvPr/>
          </p:nvSpPr>
          <p:spPr>
            <a:xfrm>
              <a:off x="3304440" y="4263480"/>
              <a:ext cx="2462400" cy="17848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IMPLEMENTING PARTNERS</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1.CDEMA –The Caribbean Development Emergency</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Management Agency will be responsible to</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implement R1-the strengthening of National Disaster agencies.</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       </a:t>
              </a:r>
              <a:r>
                <a:rPr b="0" lang="fr-BE" sz="600" spc="-1" strike="noStrike">
                  <a:solidFill>
                    <a:srgbClr val="ffffff"/>
                  </a:solidFill>
                  <a:latin typeface="Arial"/>
                </a:rPr>
                <a:t>2.  CDEMA and CDB-Joint management with CDB</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will ensure the implementation  of  Results 2 </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Strengthened national,local and regional</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resilience,via  enhanced Early Warning Mechanisms,</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National risk profiling and community based DRR&amp;CCA)</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and 3 (Strengthened public sector DRR&amp;CCA mainstreaming in</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Ministries of Finance, Planning and Economic Affairs</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3. Dominican Republic- As the Dominican Republic is neither a member </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of CDEMA or CDB , its National Authorising Officer will be</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responsible  for implementation.</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 spc="-1" strike="noStrike">
                  <a:solidFill>
                    <a:srgbClr val="ffffff"/>
                  </a:solidFill>
                  <a:latin typeface="Arial"/>
                </a:rPr>
                <a:t>3 .</a:t>
              </a:r>
              <a:endParaRPr b="0" lang="en-US" sz="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58" name="_s2058"/>
            <p:cNvSpPr/>
            <p:nvPr/>
          </p:nvSpPr>
          <p:spPr>
            <a:xfrm>
              <a:off x="6177600" y="4263480"/>
              <a:ext cx="2462400" cy="17848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POLICY BENEFICIARIES</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NATIONAL DRM AGENCIES</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MINISTRIES OF FINANCE AND PLANNING</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URBAN RURAL AND COASTAL COMMUNITIIES </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NEGATIVELY AFFECTED BY NATURAL HAZARDS</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NON STATE ACTORS OPERATING </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AT COMMUNITY LEVEL</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PRIVATE SECTOR LENDING AGENCIES </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INSURERS </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BANKS</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 </a:t>
              </a:r>
              <a:r>
                <a:rPr b="0" lang="fr-BE" sz="600" spc="-1" strike="noStrike">
                  <a:solidFill>
                    <a:srgbClr val="ffffff"/>
                  </a:solidFill>
                  <a:latin typeface="Arial"/>
                </a:rPr>
                <a:t>MEDIA</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WOMEN AND CHILDREN</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 </a:t>
              </a:r>
              <a:r>
                <a:rPr b="0" lang="fr-BE" sz="600" spc="-1" strike="noStrike">
                  <a:solidFill>
                    <a:srgbClr val="ffffff"/>
                  </a:solidFill>
                  <a:latin typeface="Arial"/>
                </a:rPr>
                <a:t>UNIVERSITIES AND RESEARCH CENTRES</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REGIONAL AND SPECIALISED </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METEOROLOGICAL CENTRES</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ACP REGIONAL ORGANISATIONS </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WHICH WERE MEMBERS OF ACP-EU NATURAL DISASTER</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FACILITY</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ccecff"/>
              </a:solidFill>
              <a:latin typeface="Arial"/>
            </a:endParaRPr>
          </a:p>
        </p:txBody>
      </p:sp>
      <p:grpSp>
        <p:nvGrpSpPr>
          <p:cNvPr id="214" name="Organization Chart 7"/>
          <p:cNvGrpSpPr/>
          <p:nvPr/>
        </p:nvGrpSpPr>
        <p:grpSpPr>
          <a:xfrm>
            <a:off x="36360" y="0"/>
            <a:ext cx="9143280" cy="6124320"/>
            <a:chOff x="36360" y="0"/>
            <a:chExt cx="9143280" cy="6124320"/>
          </a:xfrm>
        </p:grpSpPr>
        <p:cxnSp>
          <p:nvCxnSpPr>
            <p:cNvPr id="215" name="_s1028"/>
            <p:cNvCxnSpPr>
              <a:stCxn id="216" idx="0"/>
              <a:endCxn id="217" idx="2"/>
            </p:cNvCxnSpPr>
            <p:nvPr/>
          </p:nvCxnSpPr>
          <p:spPr>
            <a:xfrm flipV="1" rot="16200000">
              <a:off x="5595120" y="1461600"/>
              <a:ext cx="1225440" cy="3200760"/>
            </a:xfrm>
            <a:prstGeom prst="bentConnector3">
              <a:avLst>
                <a:gd name="adj1" fmla="val 9315"/>
              </a:avLst>
            </a:prstGeom>
            <a:ln w="28440">
              <a:solidFill>
                <a:srgbClr val="ffffff"/>
              </a:solidFill>
              <a:miter/>
            </a:ln>
          </p:spPr>
        </p:cxnSp>
        <p:cxnSp>
          <p:nvCxnSpPr>
            <p:cNvPr id="218" name="_s1029"/>
            <p:cNvCxnSpPr>
              <a:stCxn id="219" idx="0"/>
              <a:endCxn id="217" idx="2"/>
            </p:cNvCxnSpPr>
            <p:nvPr/>
          </p:nvCxnSpPr>
          <p:spPr>
            <a:xfrm flipV="1">
              <a:off x="4607640" y="2449440"/>
              <a:ext cx="3960" cy="1225440"/>
            </a:xfrm>
            <a:prstGeom prst="bentConnector2">
              <a:avLst/>
            </a:prstGeom>
            <a:ln w="28440">
              <a:solidFill>
                <a:srgbClr val="ffffff"/>
              </a:solidFill>
              <a:miter/>
            </a:ln>
          </p:spPr>
        </p:cxnSp>
        <p:cxnSp>
          <p:nvCxnSpPr>
            <p:cNvPr id="220" name="_s1030"/>
            <p:cNvCxnSpPr>
              <a:stCxn id="221" idx="0"/>
              <a:endCxn id="217" idx="2"/>
            </p:cNvCxnSpPr>
            <p:nvPr/>
          </p:nvCxnSpPr>
          <p:spPr>
            <a:xfrm flipH="1" flipV="1" rot="5400000">
              <a:off x="2394720" y="1461600"/>
              <a:ext cx="1225440" cy="3200760"/>
            </a:xfrm>
            <a:prstGeom prst="bentConnector3">
              <a:avLst>
                <a:gd name="adj1" fmla="val 9315"/>
              </a:avLst>
            </a:prstGeom>
            <a:ln w="28440">
              <a:solidFill>
                <a:srgbClr val="ffffff"/>
              </a:solidFill>
              <a:miter/>
            </a:ln>
          </p:spPr>
        </p:cxnSp>
        <p:sp>
          <p:nvSpPr>
            <p:cNvPr id="217" name="_s1031"/>
            <p:cNvSpPr/>
            <p:nvPr/>
          </p:nvSpPr>
          <p:spPr>
            <a:xfrm>
              <a:off x="3236400" y="0"/>
              <a:ext cx="2742840" cy="24498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AFRICAN UNION WILL  CHAI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THE PROGRAMME STEERING COMMITTEE5 (PSC)</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Of  IMPLEMENTING PARTNERS  .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TASK OF COMMITTE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ADVISE AND PROVIDE GUIDANC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TO DIRECTION OF PROGRAMM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OVERSEE GENERAL IMPLEMENTATION</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 </a:t>
              </a:r>
              <a:r>
                <a:rPr b="0" lang="fr-BE" sz="800" spc="-1" strike="noStrike">
                  <a:solidFill>
                    <a:srgbClr val="ffffff"/>
                  </a:solidFill>
                  <a:latin typeface="Arial"/>
                </a:rPr>
                <a:t>OF ACTIVITIES</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INFORM ON ANNUAL WORK PROGRAMMES,</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 </a:t>
              </a:r>
              <a:r>
                <a:rPr b="0" lang="fr-BE" sz="800" spc="-1" strike="noStrike">
                  <a:solidFill>
                    <a:srgbClr val="ffffff"/>
                  </a:solidFill>
                  <a:latin typeface="Arial"/>
                </a:rPr>
                <a:t>ANNUAL AND MID TERM REPORTS</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ACP Secretariat  and</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European Commission DEVCO</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to attend as Observers</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221" name="_s1032"/>
            <p:cNvSpPr/>
            <p:nvPr/>
          </p:nvSpPr>
          <p:spPr>
            <a:xfrm>
              <a:off x="36360" y="3674520"/>
              <a:ext cx="2742840" cy="24498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FUNDING BENEFICIARIES</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AFRICAN UNION COMMISSION</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AFRICAN DEVELOPMENT BANK</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AFRICAN CENTRE OF METEOROLOGICAL</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 </a:t>
              </a:r>
              <a:r>
                <a:rPr b="0" lang="fr-BE" sz="800" spc="-1" strike="noStrike">
                  <a:solidFill>
                    <a:srgbClr val="ffffff"/>
                  </a:solidFill>
                  <a:latin typeface="Arial"/>
                </a:rPr>
                <a:t>APPLICATIONS FOR DEVELOPMENT(ACMAD)</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ECONOMIC COMMUNITY OF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WEST AFRICAN STATES (ECOWAS)</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INTERGOVERNMENTAL AUTHORITY</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 </a:t>
              </a:r>
              <a:r>
                <a:rPr b="0" lang="fr-BE" sz="800" spc="-1" strike="noStrike">
                  <a:solidFill>
                    <a:srgbClr val="ffffff"/>
                  </a:solidFill>
                  <a:latin typeface="Arial"/>
                </a:rPr>
                <a:t>ON DEVELOPMENT(IGAD)</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ECONOMIC COMMUNITY FO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CENTRAL AFRICAN STATES(ECCAS)</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SOUTHERN AFRICAN</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 </a:t>
              </a:r>
              <a:r>
                <a:rPr b="0" lang="fr-BE" sz="800" spc="-1" strike="noStrike">
                  <a:solidFill>
                    <a:srgbClr val="ffffff"/>
                  </a:solidFill>
                  <a:latin typeface="Arial"/>
                </a:rPr>
                <a:t>DEVELOPMENT COMMUNITY(SADC)</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IGAD CLIMATE PREDICTION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AND APPLICATIONS CENTRE (ICPAC)</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SADC CLIMATE SERVICES CENTRE (SADC/CSC)</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AGRHYMET-PERMANENT</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 </a:t>
              </a:r>
              <a:r>
                <a:rPr b="0" lang="fr-BE" sz="800" spc="-1" strike="noStrike">
                  <a:solidFill>
                    <a:srgbClr val="ffffff"/>
                  </a:solidFill>
                  <a:latin typeface="Arial"/>
                </a:rPr>
                <a:t>INTERSTATE COMMITTE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 </a:t>
              </a:r>
              <a:r>
                <a:rPr b="0" lang="fr-BE" sz="800" spc="-1" strike="noStrike">
                  <a:solidFill>
                    <a:srgbClr val="ffffff"/>
                  </a:solidFill>
                  <a:latin typeface="Arial"/>
                </a:rPr>
                <a:t>DROUGHT CONTROL IN SAHEL (CILSS-WAF)</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219" name="_s1033"/>
            <p:cNvSpPr/>
            <p:nvPr/>
          </p:nvSpPr>
          <p:spPr>
            <a:xfrm>
              <a:off x="3236400" y="3674520"/>
              <a:ext cx="2742840" cy="24498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IMPLEMENTING PARTNERS</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1. AUC –Implementation will be a part of its continental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Programme of Action mandate and will be conducted</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 </a:t>
              </a:r>
              <a:r>
                <a:rPr b="0" lang="fr-BE" sz="800" spc="-1" strike="noStrike">
                  <a:solidFill>
                    <a:srgbClr val="ffffff"/>
                  </a:solidFill>
                  <a:latin typeface="Arial"/>
                </a:rPr>
                <a:t>through its Department of Rural Economy and Agricultur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       </a:t>
              </a:r>
              <a:r>
                <a:rPr b="0" lang="fr-BE" sz="800" spc="-1" strike="noStrike">
                  <a:solidFill>
                    <a:srgbClr val="ffffff"/>
                  </a:solidFill>
                  <a:latin typeface="Arial"/>
                </a:rPr>
                <a:t>2.  UNISDR-as part of the HYOGA Framework fo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 </a:t>
              </a:r>
              <a:r>
                <a:rPr b="0" lang="fr-BE" sz="800" spc="-1" strike="noStrike">
                  <a:solidFill>
                    <a:srgbClr val="ffffff"/>
                  </a:solidFill>
                  <a:latin typeface="Arial"/>
                </a:rPr>
                <a:t>Action(HFA)</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will be conducted as part of its mandate to</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 </a:t>
              </a:r>
              <a:r>
                <a:rPr b="0" lang="fr-BE" sz="800" spc="-1" strike="noStrike">
                  <a:solidFill>
                    <a:srgbClr val="ffffff"/>
                  </a:solidFill>
                  <a:latin typeface="Arial"/>
                </a:rPr>
                <a:t>coordinate the implementation of the HFA</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3. AfDB-will be conducted under the framework</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of the CLIMDEV-AFRICA Special Fund</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4. GFDRR(World Bank) as part of its mission</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 </a:t>
              </a:r>
              <a:r>
                <a:rPr b="0" lang="fr-BE" sz="800" spc="-1" strike="noStrike">
                  <a:solidFill>
                    <a:srgbClr val="ffffff"/>
                  </a:solidFill>
                  <a:latin typeface="Arial"/>
                </a:rPr>
                <a:t>to promote DRR/CCA mainstreaming</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 </a:t>
              </a:r>
              <a:r>
                <a:rPr b="0" lang="fr-BE" sz="800" spc="-1" strike="noStrike">
                  <a:solidFill>
                    <a:srgbClr val="ffffff"/>
                  </a:solidFill>
                  <a:latin typeface="Arial"/>
                </a:rPr>
                <a:t>through different tracks.</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216" name="_s1034"/>
            <p:cNvSpPr/>
            <p:nvPr/>
          </p:nvSpPr>
          <p:spPr>
            <a:xfrm>
              <a:off x="6436800" y="3674520"/>
              <a:ext cx="2742840" cy="24498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POLICY BENEFICIARIES</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NATIONAL DRM AGENCIES</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MINISTRIES OF FINANCE AND PLANNING</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URBAN RURAL AND COASTAL COMMUNITIIE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NEGATIVELY AFFECTED BY NATURAL HAZARDS</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NON STATE ACTORS OPERATING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AT COMMUNITY LEVEL</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PRIVATE SECTOR LENDING AGENCIES </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INSURERS </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BANKS</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 </a:t>
              </a:r>
              <a:r>
                <a:rPr b="0" lang="fr-BE" sz="800" spc="-1" strike="noStrike">
                  <a:solidFill>
                    <a:srgbClr val="ffffff"/>
                  </a:solidFill>
                  <a:latin typeface="Arial"/>
                </a:rPr>
                <a:t>MEDIA</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WOMEN AND CHILDREN</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AFRICAN UNIVERSITIES AND RESEARCH CENTRES</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REGIONAL AND SPECIALISED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METEOROLOGICAL CENTRES</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ACP REGIONAL ORGANISATION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WHICH OPERATE UNDER INTRA-ACP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ENVELOPE FOR DRR</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ccecff"/>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ff"/>
                </a:solidFill>
                <a:latin typeface="Arial"/>
              </a:rPr>
              <a:t>IMPLEMENTATION PERIOD-5 year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ff"/>
                </a:solidFill>
                <a:latin typeface="Arial"/>
              </a:rPr>
              <a:t>Total cost- €20 000 000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ccecff"/>
                </a:solidFill>
                <a:latin typeface="Arial"/>
              </a:rPr>
              <a:t>MAIN EXPECTED ACTIVITIES</a:t>
            </a:r>
            <a:endParaRPr b="0" lang="en-US" sz="4400" spc="-1" strike="noStrike">
              <a:solidFill>
                <a:srgbClr val="ccecff"/>
              </a:solidFill>
              <a:latin typeface="Arial"/>
            </a:endParaRPr>
          </a:p>
        </p:txBody>
      </p:sp>
      <p:sp>
        <p:nvSpPr>
          <p:cNvPr id="2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ff"/>
                </a:solidFill>
                <a:latin typeface="Arial"/>
              </a:rPr>
              <a:t>The Programme aims to reduce vulnerability</a:t>
            </a:r>
            <a:r>
              <a:rPr b="0" lang="en-US" sz="3200" spc="-1" strike="noStrike">
                <a:solidFill>
                  <a:srgbClr val="ffffff"/>
                </a:solidFill>
                <a:latin typeface="Arial"/>
              </a:rPr>
              <a:t> through the </a:t>
            </a:r>
            <a:r>
              <a:rPr b="0" lang="fr-BE" sz="3200" spc="-1" strike="noStrike">
                <a:solidFill>
                  <a:srgbClr val="ffffff"/>
                </a:solidFill>
                <a:latin typeface="Arial"/>
              </a:rPr>
              <a:t>strengthening of  community, national and regional community’s capacities for disaster risk reduction, preparedness management and coordinated response to the onslaught of natural hazards and the effects of Climate Chan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ccecff"/>
              </a:solidFill>
              <a:latin typeface="Arial"/>
            </a:endParaRPr>
          </a:p>
        </p:txBody>
      </p:sp>
      <p:sp>
        <p:nvSpPr>
          <p:cNvPr id="2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Result N°1-Strengthen the capacities of National Disaster Offices, other national agencies  and CDEMAs Coordinating Unit to implement the Comprehensive Disaster Management (CDM).</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Result N°2-Strengthen Early Warning, National Risk Profiling and Community based DRR and CCA at the national local and regional levels, in a number of identified high priority are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ccecff"/>
              </a:solidFill>
              <a:latin typeface="Arial"/>
            </a:endParaRPr>
          </a:p>
        </p:txBody>
      </p:sp>
      <p:sp>
        <p:nvSpPr>
          <p:cNvPr id="2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Result N°3-Strengthen resilience through DRR and CCA mainstreaming in key policy sectors;</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Main sectors targeted will be the Ministries of Finance, Planning and Economic Affair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Improved DRR/CCA integration into planning and decision making frameworks at the national and sub- national levels;</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Ensure that the critical infrastructure in CARIFORUM countries are more resilient to natural hazards,  and more prepared for Climate Change.</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u="sng">
                <a:solidFill>
                  <a:srgbClr val="ccecff"/>
                </a:solidFill>
                <a:uFillTx/>
                <a:latin typeface="Arial"/>
              </a:rPr>
              <a:t>Existing challenges in the Pacific</a:t>
            </a:r>
            <a:endParaRPr b="0" lang="en-US" sz="4000" spc="-1" strike="noStrike">
              <a:solidFill>
                <a:srgbClr val="ccecff"/>
              </a:solidFill>
              <a:latin typeface="Arial"/>
            </a:endParaRPr>
          </a:p>
        </p:txBody>
      </p:sp>
      <p:sp>
        <p:nvSpPr>
          <p:cNvPr id="2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ff"/>
                </a:solidFill>
                <a:latin typeface="Arial"/>
              </a:rPr>
              <a:t>The Pacific Island ACP states are highly vulnerable to a wide range of environmental and natural hazard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ff"/>
                </a:solidFill>
                <a:latin typeface="Arial"/>
              </a:rPr>
              <a:t>The economic impacts of these natural events result in development constraint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ff"/>
                </a:solidFill>
                <a:latin typeface="Arial"/>
              </a:rPr>
              <a:t>In addition to this vulnerability, the region faces further challenges of subsistence based fragile economies, and physical distance both within and between sta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ccecff"/>
                </a:solidFill>
                <a:latin typeface="Arial"/>
              </a:rPr>
              <a:t>Historical Context</a:t>
            </a:r>
            <a:endParaRPr b="0" lang="en-US" sz="4400" spc="-1" strike="noStrike">
              <a:solidFill>
                <a:srgbClr val="ccecff"/>
              </a:solidFill>
              <a:latin typeface="Arial"/>
            </a:endParaRPr>
          </a:p>
        </p:txBody>
      </p:sp>
      <p:sp>
        <p:nvSpPr>
          <p:cNvPr id="2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ffffff"/>
                </a:solidFill>
                <a:latin typeface="Arial"/>
              </a:rPr>
              <a:t>Since the 1980s national and regional institutional and legislative frameworks have been established to address preparedness, response, mitigation, prevention and recovery.</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ffffff"/>
                </a:solidFill>
                <a:latin typeface="Arial"/>
              </a:rPr>
              <a:t>The 2005 Hyogo Framework for Action was at the foundation of the development of a 10 year Pacific Disaster Risk Reduction and Disaster Management Framework for Action 2005-2015, which link all the national initiatives. The Pacific Regional Plan aims to improve Disaster Risk Management practices and policies to  enhance sustainable development.</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ffffff"/>
                </a:solidFill>
                <a:latin typeface="Arial"/>
              </a:rPr>
              <a:t>The Pacific Islands 2006-2015 Framework for Action on Climate Change highlights the regional commitments under the UN Framework Convention on Climate Change (UNFCC).</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ffffff"/>
                </a:solidFill>
                <a:latin typeface="Arial"/>
              </a:rPr>
              <a:t>The Secretariat of the South Pacific Community (SPC) is the lead regional institution with responsibilities to coordinate support of the Pacific Disaster Risk Management Partenership Network (PDRMPN) which aims to help Pacific Island countries to assess their national DRM capacities, and to develop and implement the National Action Plans.</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ffffff"/>
                </a:solidFill>
                <a:latin typeface="Arial"/>
              </a:rPr>
              <a:t> </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ccecff"/>
              </a:solidFill>
              <a:latin typeface="Arial"/>
            </a:endParaRPr>
          </a:p>
        </p:txBody>
      </p:sp>
      <p:sp>
        <p:nvSpPr>
          <p:cNvPr id="2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   </a:t>
            </a:r>
            <a:r>
              <a:rPr b="0" lang="fr-BE" sz="2800" spc="-1" strike="noStrike">
                <a:solidFill>
                  <a:srgbClr val="ffffff"/>
                </a:solidFill>
                <a:latin typeface="Arial"/>
              </a:rPr>
              <a:t>Pacific states are highly vulnerable and prone to following natural hazard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Tropical Cyclone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Wind storm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Flood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Earthquake;</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Volcanic eruption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IMPLEMENTATION PERIOD-5 year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Total cost- €20 000 000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ccecff"/>
              </a:solidFill>
              <a:latin typeface="Arial"/>
            </a:endParaRPr>
          </a:p>
        </p:txBody>
      </p:sp>
      <p:grpSp>
        <p:nvGrpSpPr>
          <p:cNvPr id="279" name="Organization Chart 3"/>
          <p:cNvGrpSpPr/>
          <p:nvPr/>
        </p:nvGrpSpPr>
        <p:grpSpPr>
          <a:xfrm>
            <a:off x="0" y="0"/>
            <a:ext cx="9143280" cy="6124320"/>
            <a:chOff x="0" y="0"/>
            <a:chExt cx="9143280" cy="6124320"/>
          </a:xfrm>
        </p:grpSpPr>
        <p:cxnSp>
          <p:nvCxnSpPr>
            <p:cNvPr id="280" name="_s3076"/>
            <p:cNvCxnSpPr>
              <a:stCxn id="281" idx="0"/>
              <a:endCxn id="282" idx="2"/>
            </p:cNvCxnSpPr>
            <p:nvPr/>
          </p:nvCxnSpPr>
          <p:spPr>
            <a:xfrm flipV="1" rot="16200000">
              <a:off x="5558760" y="1461600"/>
              <a:ext cx="1225440" cy="3200760"/>
            </a:xfrm>
            <a:prstGeom prst="bentConnector3">
              <a:avLst>
                <a:gd name="adj1" fmla="val 9315"/>
              </a:avLst>
            </a:prstGeom>
            <a:ln w="28440">
              <a:solidFill>
                <a:srgbClr val="ffffff"/>
              </a:solidFill>
              <a:miter/>
            </a:ln>
          </p:spPr>
        </p:cxnSp>
        <p:cxnSp>
          <p:nvCxnSpPr>
            <p:cNvPr id="283" name="_s3077"/>
            <p:cNvCxnSpPr>
              <a:stCxn id="284" idx="0"/>
              <a:endCxn id="282" idx="2"/>
            </p:cNvCxnSpPr>
            <p:nvPr/>
          </p:nvCxnSpPr>
          <p:spPr>
            <a:xfrm flipV="1">
              <a:off x="4571280" y="2449440"/>
              <a:ext cx="3960" cy="1225440"/>
            </a:xfrm>
            <a:prstGeom prst="bentConnector2">
              <a:avLst/>
            </a:prstGeom>
            <a:ln w="28440">
              <a:solidFill>
                <a:srgbClr val="ffffff"/>
              </a:solidFill>
              <a:miter/>
            </a:ln>
          </p:spPr>
        </p:cxnSp>
        <p:cxnSp>
          <p:nvCxnSpPr>
            <p:cNvPr id="285" name="_s3078"/>
            <p:cNvCxnSpPr>
              <a:stCxn id="286" idx="0"/>
              <a:endCxn id="282" idx="2"/>
            </p:cNvCxnSpPr>
            <p:nvPr/>
          </p:nvCxnSpPr>
          <p:spPr>
            <a:xfrm flipH="1" flipV="1" rot="5400000">
              <a:off x="2358360" y="1461600"/>
              <a:ext cx="1225440" cy="3200760"/>
            </a:xfrm>
            <a:prstGeom prst="bentConnector3">
              <a:avLst>
                <a:gd name="adj1" fmla="val 9315"/>
              </a:avLst>
            </a:prstGeom>
            <a:ln w="28440">
              <a:solidFill>
                <a:srgbClr val="ffffff"/>
              </a:solidFill>
              <a:miter/>
            </a:ln>
          </p:spPr>
        </p:cxnSp>
        <p:sp>
          <p:nvSpPr>
            <p:cNvPr id="282" name="_s3079"/>
            <p:cNvSpPr/>
            <p:nvPr/>
          </p:nvSpPr>
          <p:spPr>
            <a:xfrm>
              <a:off x="3200040" y="0"/>
              <a:ext cx="2742840" cy="24498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THE SECRETARIAT OF THE PACIFIC (SPC)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WILL  FACILITATE DONORS AND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DEVELOPMENT PARTNER COORDINATION.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THE SECRETARIAT WILL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ALSO CHAIR  THE PROGRAMM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STEERING COMMITTEE (PSC)</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Of  IMPLEMENTING PARTNER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TASK OF COMMITTE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ADVISE AND PROVIDE GUIDANC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TO THE DIRECTION OF PROGRAMM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OVERSEE GENERAL IMPLEMENTATION</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 </a:t>
              </a:r>
              <a:r>
                <a:rPr b="0" lang="fr-BE" sz="800" spc="-1" strike="noStrike">
                  <a:solidFill>
                    <a:srgbClr val="ffffff"/>
                  </a:solidFill>
                  <a:latin typeface="Arial"/>
                </a:rPr>
                <a:t>OF ACTIVITIES</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INFORM ON ANNUAL WORK PROGRAMMES,</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 </a:t>
              </a:r>
              <a:r>
                <a:rPr b="0" lang="fr-BE" sz="800" spc="-1" strike="noStrike">
                  <a:solidFill>
                    <a:srgbClr val="ffffff"/>
                  </a:solidFill>
                  <a:latin typeface="Arial"/>
                </a:rPr>
                <a:t>ANNUAL AND MID-TERM REPORTS.</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ACP Secretariat  and</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 </a:t>
              </a:r>
              <a:r>
                <a:rPr b="0" lang="fr-BE" sz="800" spc="-1" strike="noStrike">
                  <a:solidFill>
                    <a:srgbClr val="ffffff"/>
                  </a:solidFill>
                  <a:latin typeface="Arial"/>
                </a:rPr>
                <a:t>European Commission DEVCO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to attend as Observers</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286" name="_s3080"/>
            <p:cNvSpPr/>
            <p:nvPr/>
          </p:nvSpPr>
          <p:spPr>
            <a:xfrm>
              <a:off x="0" y="3674520"/>
              <a:ext cx="2742840" cy="24498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FUNDING BENEFICIARIES</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SOPAC DIVISION OF SECRETARIAT OF THE </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PACIFIC COMMUNITY</a:t>
              </a:r>
              <a:endParaRPr b="0" lang="en-US" sz="6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p:txBody>
        </p:sp>
        <p:sp>
          <p:nvSpPr>
            <p:cNvPr id="284" name="_s3081"/>
            <p:cNvSpPr/>
            <p:nvPr/>
          </p:nvSpPr>
          <p:spPr>
            <a:xfrm>
              <a:off x="3200040" y="3674520"/>
              <a:ext cx="2742840" cy="24498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IMPLEMENTING PARTNERS</a:t>
              </a:r>
              <a:endParaRPr b="0" lang="en-US" sz="6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1. SPC –Implementation will be a part of its regional </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Programme of Action mandate  </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       </a:t>
              </a:r>
              <a:r>
                <a:rPr b="0" lang="fr-BE" sz="600" spc="-1" strike="noStrike">
                  <a:solidFill>
                    <a:srgbClr val="ffffff"/>
                  </a:solidFill>
                  <a:latin typeface="Arial"/>
                </a:rPr>
                <a:t>2.  15 National Disaster Management offices</a:t>
              </a:r>
              <a:endParaRPr b="0" lang="en-US" sz="6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 </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p:txBody>
        </p:sp>
        <p:sp>
          <p:nvSpPr>
            <p:cNvPr id="281" name="_s3082"/>
            <p:cNvSpPr/>
            <p:nvPr/>
          </p:nvSpPr>
          <p:spPr>
            <a:xfrm>
              <a:off x="6400440" y="3674520"/>
              <a:ext cx="2742840" cy="24498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POLICY BENEFICIARIES</a:t>
              </a:r>
              <a:endParaRPr b="0" lang="en-US" sz="6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NATIONAL GOVERNMENTS (will benefit from </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  </a:t>
              </a:r>
              <a:r>
                <a:rPr b="0" lang="fr-BE" sz="600" spc="-1" strike="noStrike">
                  <a:solidFill>
                    <a:srgbClr val="ffffff"/>
                  </a:solidFill>
                  <a:latin typeface="Arial"/>
                </a:rPr>
                <a:t>enhanced response plans, Early Warning Systems, trained personnel</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and decision making tools</a:t>
              </a:r>
              <a:endParaRPr b="0" lang="en-US" sz="6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COMMUNITIES (will benefit from an enhanced understanding</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of risks, hazards and use of Early Warning Systems)</a:t>
              </a:r>
              <a:endParaRPr b="0" lang="en-US" sz="6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CIVIL SOCIETY ORGANISATIONS-(a strong partnership</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 </a:t>
              </a:r>
              <a:r>
                <a:rPr b="0" lang="fr-BE" sz="600" spc="-1" strike="noStrike">
                  <a:solidFill>
                    <a:srgbClr val="ffffff"/>
                  </a:solidFill>
                  <a:latin typeface="Arial"/>
                </a:rPr>
                <a:t>will enhance  community awareness and an </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effective outreach program </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 </a:t>
              </a:r>
              <a:endParaRPr b="0" lang="en-US" sz="6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Utilities and Private Sector-a strong partnership will help consolidate</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essential  infrastructure, and provide the technical resources to maintain  and </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explore appropriate solutions</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ccecff"/>
                </a:solidFill>
                <a:latin typeface="Arial"/>
              </a:rPr>
              <a:t>FIVE MAIN EXPECTED ACTIVITIES</a:t>
            </a:r>
            <a:endParaRPr b="0" lang="en-US" sz="4000" spc="-1" strike="noStrike">
              <a:solidFill>
                <a:srgbClr val="ccecff"/>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ffffff"/>
                </a:solidFill>
                <a:latin typeface="Arial"/>
              </a:rPr>
              <a:t>     </a:t>
            </a:r>
            <a:endParaRPr b="0" lang="en-US" sz="1200" spc="-1" strike="noStrike">
              <a:solidFill>
                <a:srgbClr val="ffffff"/>
              </a:solidFill>
              <a:latin typeface="Arial"/>
            </a:endParaRPr>
          </a:p>
          <a:p>
            <a:pPr marL="343080" indent="-343080">
              <a:lnSpc>
                <a:spcPct val="80000"/>
              </a:lnSpc>
              <a:spcBef>
                <a:spcPts val="3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ffffff"/>
                </a:solidFill>
                <a:latin typeface="Arial"/>
              </a:rPr>
              <a:t>Result N°1-Effective preparedness, response and recovery-There will be a strong focus upon national and regional response plans,further developing Early Warning Systems,strengthening the capacity of emergency and evacuation  centres, and improve access to safe drinking water.</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ffffff"/>
                </a:solidFill>
                <a:latin typeface="Arial"/>
              </a:rPr>
              <a:t>        </a:t>
            </a:r>
            <a:r>
              <a:rPr b="0" lang="fr-BE" sz="1200" spc="-1" strike="noStrike">
                <a:solidFill>
                  <a:srgbClr val="ffffff"/>
                </a:solidFill>
                <a:latin typeface="Arial"/>
              </a:rPr>
              <a:t>[Activities include:National and community levels assessment, design and development of appropriate EWS are linked; assessment of the coordination capacities of emergency operations at national and sub-national levels; development of hazard mitigation plans eg. droughts;develop hazard response plans at community, sub-national and national levels].</a:t>
            </a:r>
            <a:endParaRPr b="0" lang="en-US" sz="1200" spc="-1" strike="noStrike">
              <a:solidFill>
                <a:srgbClr val="ffffff"/>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80000"/>
              </a:lnSpc>
              <a:spcBef>
                <a:spcPts val="3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ffffff"/>
                </a:solidFill>
                <a:latin typeface="Arial"/>
              </a:rPr>
              <a:t>Result N°2-Strengthened institutional arrangement for DRM and CCA-This positively responds to the region’s integrated approach to DRM and CCA issues at the level of national and sector strategies, planning and budgetary processes. This approach also reflects the need for Joint National Actional Plans, and will directly continue the DRM activities carried out under the 9th EDF ACP-EU Natural Disaster Facility.[Activities will aim to conduct advocacy for Joint National Action Plans and develop joint implementation arrangements;conduct joint advocacy for integrated DRM and CCA governance arrangements and develop the relevant policy documentation to guide the adminsitrative and legal revisions to arrangements; draft appropiate legislation;support Pacific Island countries role in Joint National Action Plans];</a:t>
            </a:r>
            <a:endParaRPr b="0" lang="en-US" sz="1200" spc="-1" strike="noStrike">
              <a:solidFill>
                <a:srgbClr val="ffffff"/>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80000"/>
              </a:lnSpc>
              <a:spcBef>
                <a:spcPts val="3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ffffff"/>
                </a:solidFill>
                <a:latin typeface="Arial"/>
              </a:rPr>
              <a:t>Result N° 3-Improved knowledge, information, public awareness, training-The provision of hazard and risk information through the strengthening of local and regional databases, human and technical capacity in a wide range of priority areas.</a:t>
            </a:r>
            <a:endParaRPr b="0" lang="en-US" sz="1200" spc="-1" strike="noStrike">
              <a:solidFill>
                <a:srgbClr val="ffffff"/>
              </a:solidFill>
              <a:latin typeface="Arial"/>
            </a:endParaRPr>
          </a:p>
          <a:p>
            <a:pPr marL="343080" indent="-343080">
              <a:lnSpc>
                <a:spcPct val="80000"/>
              </a:lnSpc>
              <a:spcBef>
                <a:spcPts val="3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ffffff"/>
                </a:solidFill>
                <a:latin typeface="Arial"/>
              </a:rPr>
              <a:t>[Activities will aim to gather data for Pacific Disaster Net Portals(PDN); provide technical advice and training for National Disaster Management Offices and other stakeholders; design and  develop DRM/CCA training for national, local,provincial and community level trainers; provide technical support to tertiary institutions; conduct assessment of DRM/CCA information needs at the national, sub-national, sectoral, regional and community levels].</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ccecff"/>
              </a:solidFill>
              <a:latin typeface="Arial"/>
            </a:endParaRPr>
          </a:p>
        </p:txBody>
      </p:sp>
      <p:sp>
        <p:nvSpPr>
          <p:cNvPr id="2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ffffff"/>
                </a:solidFill>
                <a:latin typeface="Arial"/>
              </a:rPr>
              <a:t>Result N°4- Improved understanding of natural hazards and the reduction of underlying risks- This will be the result of an approach that focusses on the gaps in scientific, technical, social and economic understanding of the impact of hazards. There will also be analysis of the risks that are created by the ever changing social, economic, environmental factors.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ffffff"/>
                </a:solidFill>
                <a:latin typeface="Arial"/>
              </a:rPr>
              <a:t>      </a:t>
            </a:r>
            <a:r>
              <a:rPr b="0" lang="fr-BE" sz="1400" spc="-1" strike="noStrike">
                <a:solidFill>
                  <a:srgbClr val="ffffff"/>
                </a:solidFill>
                <a:latin typeface="Arial"/>
              </a:rPr>
              <a:t>[Activities will aim to collect Hazard, Vulnerability and Risk data for target communities/areas; use this risk information to inform development planning and  budgeting in a wide range of areas eg. Food and water security, building codes and land use plans; identification  and standardisation of a disaster loss inventory database for target countries.]</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ffffff"/>
                </a:solidFill>
                <a:latin typeface="Arial"/>
              </a:rPr>
              <a:t>Result N°5-Enhanced Partnerships - DRM partnerships will  respond to the need for a stronger regional capacity for DRM policy through a shared and single and coherent regional policy framework,hazard risk management and facilitation of DRR financing and integration into the work programmes of the Council of Regional Organisations of the Pacific (CROP) agencies.</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ffffff"/>
                </a:solidFill>
                <a:latin typeface="Arial"/>
              </a:rPr>
              <a:t>[Activities will continue to implement the 2015 roadmap for and integrated DRM/CCA roadmap; assist the coordination of the Pacific Platform for DRM meetings, Pacific Climate Change Roundtable and other regional and international fora; support CROP agencies to mainstream DRM and CCA by providing the appropriate training and technical assistance; conduct donor roundtable meeting to support  programme of activitie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ccecff"/>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ff"/>
                </a:solidFill>
                <a:latin typeface="Arial"/>
              </a:rPr>
              <a:t>ACP Secretariat as the Authorising Officer  has the responsibility to align the African  Programme with that of the Caribbean and Pacific.</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ff"/>
                </a:solidFill>
                <a:latin typeface="Arial"/>
              </a:rPr>
              <a:t>Total global ACP package under 10th EDF is €180m.</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ff"/>
                </a:solidFill>
                <a:latin typeface="Arial"/>
              </a:rPr>
              <a:t>Total Global Package for Africa- €80m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ccecff"/>
                </a:solidFill>
                <a:latin typeface="Arial"/>
              </a:rPr>
              <a:t>ACP-EU DRM GROUP  </a:t>
            </a:r>
            <a:endParaRPr b="0" lang="en-US" sz="4400" spc="-1" strike="noStrike">
              <a:solidFill>
                <a:srgbClr val="ccecff"/>
              </a:solidFill>
              <a:latin typeface="Arial"/>
            </a:endParaRPr>
          </a:p>
        </p:txBody>
      </p:sp>
      <p:sp>
        <p:nvSpPr>
          <p:cNvPr id="2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3200" spc="-1" strike="noStrike">
              <a:solidFill>
                <a:srgbClr val="ffffff"/>
              </a:solidFill>
              <a:latin typeface="Arial"/>
            </a:endParaRPr>
          </a:p>
        </p:txBody>
      </p:sp>
      <p:pic>
        <p:nvPicPr>
          <p:cNvPr id="293" name="Picture 4" descr="photo"/>
          <p:cNvPicPr/>
          <p:nvPr/>
        </p:nvPicPr>
        <p:blipFill>
          <a:blip r:embed="rId1"/>
          <a:stretch/>
        </p:blipFill>
        <p:spPr>
          <a:xfrm>
            <a:off x="2540160" y="1905120"/>
            <a:ext cx="4063680" cy="3047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ccecff"/>
              </a:solidFill>
              <a:latin typeface="Arial"/>
            </a:endParaRPr>
          </a:p>
        </p:txBody>
      </p:sp>
      <p:sp>
        <p:nvSpPr>
          <p:cNvPr id="2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ACP-EU Natural Disaster Risk Reduction (NDRR) Program</a:t>
            </a:r>
            <a:r>
              <a:rPr b="0" lang="en-US" sz="2800" spc="-1" strike="noStrike">
                <a:solidFill>
                  <a:srgbClr val="ffffff"/>
                </a:solidFill>
                <a:latin typeface="Arial"/>
              </a:rPr>
              <a:t> was launched in 2011 as an initiative of the ACP Group of States, funded by a EUR 54.5 million European Union (EU) grant and managed by the World Bank’s Global Facility for Disaster Reduction and Recovery (GFDRR), to support Disaster Risk Management (DRM) and Climate Change Adaptation (CCA) activities in ACP countries through technical assistance, capacity building and advisory/analytical work.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ccecff"/>
              </a:solidFill>
              <a:latin typeface="Arial"/>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3200" spc="-1" strike="noStrike">
              <a:solidFill>
                <a:srgbClr val="ffffff"/>
              </a:solidFill>
              <a:latin typeface="Arial"/>
            </a:endParaRPr>
          </a:p>
        </p:txBody>
      </p:sp>
      <p:sp>
        <p:nvSpPr>
          <p:cNvPr id="228" name="Rectangle 5"/>
          <p:cNvSpPr/>
          <p:nvPr/>
        </p:nvSpPr>
        <p:spPr>
          <a:xfrm>
            <a:off x="2286000" y="-380880"/>
            <a:ext cx="4572000" cy="722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ff"/>
                </a:solidFill>
                <a:latin typeface="Arial"/>
              </a:rPr>
              <a:t>MARCH 2014 CALL FOR PROPOSAL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ff"/>
                </a:solidFill>
                <a:latin typeface="Arial"/>
              </a:rPr>
              <a:t>GFDRR DRR/CCA MAINSTREAMING THROUGH DIFFERENT TRACK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ff"/>
                </a:solidFill>
                <a:latin typeface="Arial"/>
              </a:rPr>
              <a:t>TRACK 1-GLOBAL AND REGIONAL COOPERATION-ensures broad involvement of governments, UN,multilateral development banks, regional organisation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ff"/>
                </a:solidFill>
                <a:latin typeface="Arial"/>
              </a:rPr>
              <a:t>and civil society organisation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ff"/>
                </a:solidFill>
                <a:latin typeface="Arial"/>
              </a:rPr>
              <a:t>TRACK 2-DISASTER RISK REDUCTI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ff"/>
                </a:solidFill>
                <a:latin typeface="Arial"/>
              </a:rPr>
              <a:t>MAINSTREAMING  AND CCA IN COUNTRY DEVELOPMENT-through a Multi-Donor Trust Fun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ff"/>
                </a:solidFill>
                <a:latin typeface="Arial"/>
              </a:rPr>
              <a:t>pooled resources are used for activities within the Work Programme approved b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ff"/>
                </a:solidFill>
                <a:latin typeface="Arial"/>
              </a:rPr>
              <a:t> </a:t>
            </a:r>
            <a:r>
              <a:rPr b="0" lang="fr-BE" sz="1800" spc="-1" strike="noStrike">
                <a:solidFill>
                  <a:srgbClr val="ffffff"/>
                </a:solidFill>
                <a:latin typeface="Arial"/>
              </a:rPr>
              <a:t>GFDRR Consultative group member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ff"/>
                </a:solidFill>
                <a:latin typeface="Arial"/>
              </a:rPr>
              <a:t>(8 international organisations and 41 countries including ACP, European Commission,Australia, Brazil, Canada,Denmark,France German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ff"/>
                </a:solidFill>
                <a:latin typeface="Arial"/>
              </a:rPr>
              <a:t>Ireland, Italy,Japan, Luxembourg, Norway, Spain, Sweden, Switzerland, The Netherlands, UK, U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ccecff"/>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TRACK 3-STANDBY RECOVERY FINANCING FACILITY</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Bridges the gap between Post –Disaster Humanitarian Assistance and</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 </a:t>
            </a:r>
            <a:r>
              <a:rPr b="0" lang="fr-BE" sz="2800" spc="-1" strike="noStrike">
                <a:solidFill>
                  <a:srgbClr val="ffffff"/>
                </a:solidFill>
                <a:latin typeface="Arial"/>
              </a:rPr>
              <a:t>Longer-Term Reconstruction. Builds upon information received from Post Disaster Needs Assessments (PDNAs)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March 2014 Call for Proposals involved Tracks 1&amp; 2.</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u="sng">
                <a:solidFill>
                  <a:srgbClr val="ccecff"/>
                </a:solidFill>
                <a:uFillTx/>
                <a:latin typeface="Arial"/>
              </a:rPr>
              <a:t>Existing challenges </a:t>
            </a:r>
            <a:br>
              <a:rPr sz="4000"/>
            </a:br>
            <a:r>
              <a:rPr b="0" lang="fr-BE" sz="4000" spc="-1" strike="noStrike" u="sng">
                <a:solidFill>
                  <a:srgbClr val="ccecff"/>
                </a:solidFill>
                <a:uFillTx/>
                <a:latin typeface="Arial"/>
              </a:rPr>
              <a:t>      in Sub-Saharan Africa</a:t>
            </a:r>
            <a:endParaRPr b="0" lang="en-US" sz="4000" spc="-1" strike="noStrike">
              <a:solidFill>
                <a:srgbClr val="ccecff"/>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Poor communication on natural hazards and risk results in weak levels of public awarenes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Absence of  a development oriented and comprehensive approach to DRM and DRR;</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Inadequate institutional support and resources for regional, sub-regional and national DRM activit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ccecff"/>
              </a:solidFill>
              <a:latin typeface="Arial"/>
            </a:endParaRPr>
          </a:p>
        </p:txBody>
      </p:sp>
      <p:sp>
        <p:nvSpPr>
          <p:cNvPr id="2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ff"/>
                </a:solidFill>
                <a:latin typeface="Arial"/>
              </a:rPr>
              <a:t>Inadequate  data on losse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ff"/>
                </a:solidFill>
                <a:latin typeface="Arial"/>
              </a:rPr>
              <a:t>Insufficient use of scientific tools to guide decisionmaking;</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ff"/>
                </a:solidFill>
                <a:latin typeface="Arial"/>
              </a:rPr>
              <a:t>Absence of an accurate measure of losses result in the economic and social costs of disasters not being accounted for in the fiscal and budgetary polic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ccecff"/>
              </a:solidFill>
              <a:latin typeface="Arial"/>
            </a:endParaRPr>
          </a:p>
        </p:txBody>
      </p:sp>
      <p:sp>
        <p:nvSpPr>
          <p:cNvPr id="2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ff"/>
                </a:solidFill>
                <a:latin typeface="Arial"/>
              </a:rPr>
              <a:t>Inadequate strategies for long term post disaster recovery, reconstruction and developmen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ff"/>
                </a:solidFill>
                <a:latin typeface="Arial"/>
              </a:rPr>
              <a:t>Limited ability of weather services to produce timely and high quality service, including community focussed Early Warning System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ff"/>
                </a:solidFill>
                <a:latin typeface="Arial"/>
              </a:rPr>
              <a:t>Lack of regional climate centres in parts of Afric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03T15:11:50Z</dcterms:created>
  <dc:creator>Corrie-Kordas</dc:creator>
  <dc:description/>
  <dc:language>en-US</dc:language>
  <cp:lastModifiedBy>Staff</cp:lastModifiedBy>
  <dcterms:modified xsi:type="dcterms:W3CDTF">2009-05-31T02:36:19Z</dcterms:modified>
  <cp:revision>58</cp:revision>
  <dc:subject/>
  <dc:title>Building Resilience</dc:title>
</cp:coreProperties>
</file>